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43F-ACAE-4596-917B-DCBBE67E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BB9-8974-4E01-BE9D-AC20818A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60977-0A6C-413C-91DE-A1144615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C90AF-2648-452A-B4B9-25649875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65D99-D028-4DD0-A013-11977FBD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0EFB1-512D-4D80-8DE3-8889FC7D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917A1-C07D-4F2F-85F7-3E661459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271DF-617F-42FB-B4E0-840F0F29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E2A92-E1E2-4664-BD4C-4A9D169B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9FF0B-7E5B-4759-A7DD-7C1D6320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0C1A9-26F7-4AE1-8F89-07FFDC19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D90-B59C-45D2-82F7-1B32DA3D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FC6-4630-4BE2-BE7F-0ADEEF10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951A-8D59-4188-8B15-EF20E002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78EC-8F82-4C28-8022-1090A2FF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AE17-87AC-41B6-86C6-25DDC4A4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249E-B4A1-47A8-AEA9-35F05F5E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9653-3B1A-49F0-BFF2-4F8F03EA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AF85-6FE4-4A1C-95AA-28BE4D60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4C09-8A02-4A04-AD05-D47602AB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664-EE57-4C88-AC64-5B9E0781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5986-6D31-437F-8E7A-BF86DA3E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CE99-EFC6-454E-A31F-2ADCAA41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D194-E6AC-4ACF-B650-0C9E9569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B1D8-8007-44F1-BA28-7DA8B68E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4DBB-987D-43EE-BE29-5DE0CF9B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135CA-3DDC-4253-9FAC-8D9BE5B9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10E65-B637-42B2-8608-54C33319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DFCA4-FF8C-46F8-B397-746D0151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2F1AA-F32A-4BC7-B10C-F957346C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24150-F100-473F-80A0-2A715FA5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55E-1048-4ED2-AB9D-4F2CF1DC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E727A-A4A9-4063-B52E-17366429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5F75-75D7-452A-9994-2837AD38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0E2C6-03C9-42F3-BD8D-DD99312A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28565-D1D5-493C-97C0-749DD0B7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3235-7093-45A1-A763-4B04982E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99C8C-0244-41BA-820A-ADF5AAB5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DA9C-9792-40A1-98D2-02EFABF8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072EE-370F-47B3-8C98-E2CFA5F4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2264C-3317-4A1C-84C3-671095C7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3D8AD-586A-4E6F-9935-ABD35E5B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18F-079E-459E-A4A3-4CB04808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F09B2-3B5E-4CDE-AF1A-EC3CD554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269E1-76F3-45CA-8C95-2202B995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E2A75-F41C-4A76-A598-25D38B21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3A833-BEFE-46D2-B4BC-FC5E1589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18964-79E2-4CC1-83BB-61E075F4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FC3F7-E0DC-4C56-8872-753EE14D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8CD7-BC14-4996-B972-26E2E439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B0C35-901E-4C56-B028-05888F81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32562-1AF7-4B77-9889-E56EB8DF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CEED1-6327-4B5B-AE01-24EF6C1C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368-2CA3-4518-B9F2-6E4290EF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17979-CD1D-4C0E-8A77-1C0C360F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1CC8D-EFB8-469E-B8F4-4F2DFC11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E1626-4866-4A04-BB5C-DD99412E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F3BED-EDE0-4848-B7B7-E1C73F62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EF39B-45E6-402B-BFC3-A2719DB3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A5F54-BC19-4948-A8A2-0CB938A4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13407-3522-429D-8FE8-C08F9B9D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1D5A5-1D3A-4B55-9119-E150B20C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1EF18-EBE6-4417-BEA8-5F39C5D5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4FB4E-AEB7-4D5C-9FF7-79E3FB6B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926-E469-4CA5-BAC2-5585B1EA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E71B4-1A33-4132-A901-E086E667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4055C-E8FC-48D2-AAF6-DB405BE9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AB168-FD44-4871-A50B-53E2953F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8953D-EFBE-42D3-8329-7E548045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F9300-B53C-42DE-BFCB-3F8C3DCD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B31B0-6D26-4323-A6E6-00490F6F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0C546-6F8B-47D4-80FB-6D25279E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30E32-CADA-4452-9CD7-EEADED1B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19FAA-1331-4A16-91B8-BD6FEDDE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73EAE-3D42-4510-99C7-8120232A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D2A-7CD0-4648-984D-0E458EC0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12EE7-CC37-42AD-9684-92EC02E2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0CD55-BF41-48E2-AB0F-74D449BC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669B9-E580-4D09-93B6-5DE43673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D9E79-E3E0-4545-B0E9-1958B172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67B8D-0B6D-4091-A8E2-A4C884BA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854C8-9590-463A-A2CB-2AFADFE6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3DEAD-2120-44B2-B286-FB357440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71B2E-6FCA-4195-A719-04A79FDF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240B0-E326-41BE-91E1-CD07D46C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5982F-4B7F-4FEF-B367-607A0A96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B28-DB11-4F87-A46A-154817A6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DE61A-3D40-433B-9164-99DF0120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B8B1C-A208-4041-AC6F-F0616F8C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39759-A201-4AD8-868E-0F47E9F6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2DCDF-5214-4FE6-AB4E-A107E7DF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CE87C-BA10-4FC8-9A40-2CB3B1B0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71FD3-12CE-48F0-96FD-ED523AF6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E0043-F2E3-430A-A2FC-492B5719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E7A8F-5B77-41F7-AE29-B68D02A3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838F7-6C29-4EE4-88DD-79B815F9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21278-F0DA-4ADB-8368-D3EAE42B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3D1-F598-430C-BD21-BBF39375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FB9BE-7A13-4473-AA2D-E9463ED5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29803-1C17-40E6-9D6C-F8EDF499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F8D61-9A35-4980-8FC6-B75E99E5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66893-8B01-494A-B2DB-D81AE3BF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54AAE-77F9-470B-9FB2-294AA571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A9442-21E5-40FF-B10F-86C149E4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F78BC-7BD6-4800-94F3-A5019749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C23CB-3849-4F8F-9ABD-5F5C86B1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AFEF5-B948-4FAE-973F-84B3E494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AE389-45B3-4DBA-B953-9B7170C4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53EA-9DF3-4DAB-956E-CDECA529E3E6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6919-06C1-4ADD-8A70-3083A40BCB25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1DEF-B1F8-49FB-B9BA-4FD9F3366577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7057-A9A8-4D60-A5EE-EC89221AF711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E2F0-B78B-4134-8BD7-2259E2146BBC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390B-F284-4FDD-A7FB-02E3258F8E3C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B4C7-321D-4F41-B008-061F220DAEBD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2A43-C9C1-4F2D-AEAA-3D305253A519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7823-828B-4E74-AE50-FF3D39787D20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9 класс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учебник под редакцией Р. Н. Бунеева и Е. В. Бунеевой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учитель русского языка и литературы Осинцева Лариса Анатольевна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МБОУ «Основная  общеобразовательная      школа №10»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г. Таштагола, Кемеровской области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44440" y="1646280"/>
            <a:ext cx="8613720" cy="4437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380520" y="333360"/>
            <a:ext cx="84582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Franklin Gothic Book"/>
              </a:rPr>
              <a:t>Какой союз соединяет части сложносочиненного предложения: соединительный, разделительный, противительный? Какое значение выражается при помощи этого союза?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539640" y="530064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юз соединительный И  выражает временны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ительный союз НО выраж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304920" y="1884240"/>
            <a:ext cx="8845560" cy="41990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80520" y="764640"/>
            <a:ext cx="84582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3f6d"/>
                </a:solidFill>
                <a:latin typeface="Franklin Gothic Book"/>
              </a:rPr>
              <a:t>1. Укажите   правильное   объяснение   постановки   запятой или  её отсутствия   в предложении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304920" y="2054160"/>
            <a:ext cx="8540640" cy="40291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80520" y="1052640"/>
            <a:ext cx="84582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Варианты ответов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378000" y="1438200"/>
            <a:ext cx="8467560" cy="47800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380520" y="549000"/>
            <a:ext cx="84582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Использованная литература и Интернет - источники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  </a:t>
            </a: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обобщить и систематизировать материал о сложносочинённых предложениях; совершенствовать пунктуационные навыки в предложениях данного типа; 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  </a:t>
            </a: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формировать позитивное отношение к исследовательской работе; совершенствовать речевую деятельность школьников;  воспитывать любовь к родному языку; воспитывать гуманное отношение к людям.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79200" y="469800"/>
            <a:ext cx="8863200" cy="1219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915920"/>
            <a:ext cx="8686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    </a:t>
            </a: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1 Плывут паутины над сонным жнивьём, краснеют рябины под каждым окном.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              </a:t>
            </a: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БСП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   </a:t>
            </a: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2.Наступила ненастная осень, и караваны птиц потянулись в теплые края.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              </a:t>
            </a: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ССП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  </a:t>
            </a: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3.Солнце дарит ягодам тепло и наливает их сладким соком.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              </a:t>
            </a: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ПП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95120" y="55440"/>
            <a:ext cx="8961480" cy="18464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2565000"/>
            <a:ext cx="8686800" cy="35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      </a:t>
            </a: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Наступила ненастная осень, и караваны птиц потянулись в теплые края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      </a:t>
            </a: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Два простых предложения равноправны по смыслу и связаны сочинительным союзом и. Это предложение сложносочинённое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12760" y="3133800"/>
            <a:ext cx="8632800" cy="29494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80520" y="549000"/>
            <a:ext cx="845820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1a3f6d"/>
                </a:solidFill>
                <a:latin typeface="Franklin Gothic Book"/>
              </a:rPr>
              <a:t>Синтаксический разбор предложения</a:t>
            </a:r>
            <a:endParaRPr b="0" lang="en-US" sz="33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1a3f6d"/>
                </a:solidFill>
                <a:latin typeface="Franklin Gothic Book"/>
              </a:rPr>
              <a:t>Зацвела ива, и пчёлы вылетели за первым взятком, а на полянах робко показались подснежники.</a:t>
            </a:r>
            <a:endParaRPr b="0" lang="en-US" sz="33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12760" y="1695600"/>
            <a:ext cx="8827920" cy="53211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440" y="476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a3f6d"/>
                </a:solidFill>
                <a:latin typeface="Franklin Gothic Book"/>
              </a:rPr>
              <a:t>Группы сочинительных союзов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52280" y="2846520"/>
            <a:ext cx="8637840" cy="29638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80520" y="620640"/>
            <a:ext cx="84582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3f6d"/>
                </a:solidFill>
                <a:latin typeface="Franklin Gothic Book"/>
              </a:rPr>
              <a:t>Разделительные союзы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 – СОЧИНИТЕЛЬНЫЕ СОЮЗЫ, служащие в ПРОСТЫХ и СЛОЖНЫХ предложениях для выражения отношений разделения, взаимоисключения, чередования действий, событий (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или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либ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или...,или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либо...,либ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то...,т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не то...,не т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 и др.).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82520" y="3840120"/>
            <a:ext cx="8663040" cy="22431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80520" y="765000"/>
            <a:ext cx="8458200" cy="288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3f6d"/>
                </a:solidFill>
                <a:latin typeface="Franklin Gothic Book"/>
              </a:rPr>
              <a:t>Противительные союзы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 – СОЧИНИТЕЛЬНЫЕ СОЮЗЫ, служащие в ПРОСТЫХ и СЛОЖНЫХ предложениях для выражения отношений противопоставления, несоответствия, различия (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а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н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да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 (в значении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н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)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однак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зат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а т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а не т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 и др.).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82520" y="542880"/>
            <a:ext cx="8663040" cy="23893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323640" y="1989000"/>
            <a:ext cx="8458200" cy="43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a3f6d"/>
                </a:solidFill>
                <a:latin typeface="Franklin Gothic Book"/>
              </a:rPr>
              <a:t>Запишем предложения, выделим в них грамматические основы, определим, какая смысловая связь существует между простыми предложениями в составе сложносочинённых, с помощью каких союзов она выражается. </a:t>
            </a:r>
            <a:r>
              <a:rPr b="0" lang="ru-RU" sz="2200" spc="-1" strike="noStrike" u="sng">
                <a:solidFill>
                  <a:srgbClr val="1a3f6d"/>
                </a:solidFill>
                <a:uFillTx/>
                <a:latin typeface="Franklin Gothic Book"/>
              </a:rPr>
              <a:t>(попробуем переставить предложения местами)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a3f6d"/>
                </a:solidFill>
                <a:latin typeface="Franklin Gothic Book"/>
              </a:rPr>
              <a:t>Сучок хрустнул, и ветка обломилась. 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a3f6d"/>
                </a:solidFill>
                <a:latin typeface="Franklin Gothic Book"/>
              </a:rPr>
              <a:t>(последовательность)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a3f6d"/>
                </a:solidFill>
                <a:latin typeface="Franklin Gothic Book"/>
              </a:rPr>
              <a:t>В ёлках нависла синяя тишина, а плакучие берёзы опустили вниз свои зелёные косы. 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a3f6d"/>
                </a:solidFill>
                <a:latin typeface="Franklin Gothic Book"/>
              </a:rPr>
              <a:t>(сопоставление)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a3f6d"/>
                </a:solidFill>
                <a:latin typeface="Franklin Gothic Book"/>
              </a:rPr>
              <a:t>То тихо откроется калитка, то скрипнет дверь.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a3f6d"/>
                </a:solidFill>
                <a:latin typeface="Franklin Gothic Book"/>
              </a:rPr>
              <a:t> </a:t>
            </a:r>
            <a:r>
              <a:rPr b="0" lang="ru-RU" sz="2200" spc="-1" strike="noStrike">
                <a:solidFill>
                  <a:srgbClr val="1a3f6d"/>
                </a:solidFill>
                <a:latin typeface="Franklin Gothic Book"/>
              </a:rPr>
              <a:t>(чередование)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04:02:35Z</dcterms:created>
  <dc:creator>Лариса</dc:creator>
  <dc:description/>
  <dc:language>en-US</dc:language>
  <cp:lastModifiedBy>Лариса</cp:lastModifiedBy>
  <dcterms:modified xsi:type="dcterms:W3CDTF">2011-08-11T04:53:36Z</dcterms:modified>
  <cp:revision>30</cp:revision>
  <dc:subject/>
  <dc:title>Сложносочинённое предложение</dc:title>
</cp:coreProperties>
</file>